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4F0-4773-474E-9F8C-BCE49990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06C4-00A0-4AC5-A997-8CDEB3F5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E3EC-A351-4953-B2B0-0B576682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96CA-7772-495A-90A9-35AE36E6D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2269-5A8F-4E7A-9B79-20DAB843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9085-E512-408B-A3D2-D48ED6B5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6F68-1701-4634-B175-BCA5C75A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B1BF-5A8E-4EF4-A545-34CF34C5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FF5-A71E-4D1D-887C-D25815E0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071-D8BB-4545-BC16-0C50CAA8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994-F0A7-4356-9F62-8C237A4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1FB-4512-42CD-948B-0A1DA9DB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B58-4EBC-4A77-B469-8E9C88E7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FA9C-D1A4-40FE-A68D-C831739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07D4-48EB-4E82-8551-9C8FAC77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4164-FE35-42F5-8907-D2E0B6C0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D817-B041-46A7-8549-F4D30BF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CCD-5185-4F55-9CED-C514908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5075-3225-4459-8C6B-24019963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4D0A-34D6-42BF-92FC-B5968C5F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CA1-433F-4290-80A2-3AAE4BAD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16B9-2F64-40D9-95FB-C980BA7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BE1A-3C11-4A67-B9BD-7F4991DE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209D-0CCC-4C6A-AC97-5C35A9E5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CC6-8B1B-4AA4-9A17-60301F33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B2A9-6CE3-45AF-8C92-0A3B8F6F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CA8-4C00-4D02-9134-E40A1C5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42E-BD16-474F-9C22-7E172089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CFF-018A-4570-84FA-45973A2C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569-F613-4E1A-A625-D99E27E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9E2-FD57-45D4-B802-E76ED1ED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CCA-E97A-4201-81F7-0DCB5C3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D1E-3B3D-49F4-B9B2-DA1A1E4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90F-19C0-4A96-AF9C-81E18A1B2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F5C-938D-4D2E-88A9-643AB75F6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stersdisctionary.com/" TargetMode="External"/><Relationship Id="rId2" Type="http://schemas.openxmlformats.org/officeDocument/2006/relationships/hyperlink" Target="http://faculty.washington.edu/chudler/nosek.html" TargetMode="External"/><Relationship Id="rId3" Type="http://schemas.openxmlformats.org/officeDocument/2006/relationships/hyperlink" Target="http://faculty.washington.edu/chudler/lob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atomy of the No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4190760"/>
            <a:ext cx="5105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nda Morgan, MS, OTR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ly Landry, OTA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1/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re Olfactory Syste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434600"/>
            <a:ext cx="33130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ers and cells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ith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carry the message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fa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lb then sends the messages to the brain, including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olf1"/>
          <p:cNvPicPr/>
          <p:nvPr/>
        </p:nvPicPr>
        <p:blipFill>
          <a:blip r:embed="rId1"/>
          <a:stretch/>
        </p:blipFill>
        <p:spPr>
          <a:xfrm>
            <a:off x="4114800" y="228600"/>
            <a:ext cx="480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Temporal Lob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8098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gni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s why smell is connected to memor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re your Temporal Lob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temporalLobe"/>
          <p:cNvPicPr/>
          <p:nvPr/>
        </p:nvPicPr>
        <p:blipFill>
          <a:blip r:embed="rId1"/>
          <a:stretch/>
        </p:blipFill>
        <p:spPr>
          <a:xfrm>
            <a:off x="3962520" y="228600"/>
            <a:ext cx="4952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t’s Test YOUR Olfactory Syste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around aromatherapy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guess the sc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your favorite and least favor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CACMIX7XCAQDX9OBCAWYQOXFCA4Q5FWHCAB6ACGMCAH39TK7CAOAIIANCA666Z2XCA46LDX4CA9K0S4DCAN0VCD4CA1KQ1FSCA6QKF0HCABM2AC0CAIKUZNZCARRJMA1CA5QZ7JXCAO7T1AUCA1BLQH3.jpg"/>
          <p:cNvPicPr/>
          <p:nvPr/>
        </p:nvPicPr>
        <p:blipFill>
          <a:blip r:embed="rId1"/>
          <a:stretch/>
        </p:blipFill>
        <p:spPr>
          <a:xfrm>
            <a:off x="4048200" y="685800"/>
            <a:ext cx="4867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ontent Placeholder 7" descr="ts.jpg"/>
          <p:cNvPicPr/>
          <p:nvPr/>
        </p:nvPicPr>
        <p:blipFill>
          <a:blip r:embed="rId1"/>
          <a:stretch/>
        </p:blipFill>
        <p:spPr>
          <a:xfrm>
            <a:off x="4648320" y="304920"/>
            <a:ext cx="419076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23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) Grapefru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ntent Placeholder 7" descr="thumbnailCAWHJTKT.jpg"/>
          <p:cNvPicPr/>
          <p:nvPr/>
        </p:nvPicPr>
        <p:blipFill>
          <a:blip r:embed="rId1"/>
          <a:stretch/>
        </p:blipFill>
        <p:spPr>
          <a:xfrm>
            <a:off x="4267080" y="380880"/>
            <a:ext cx="4496040" cy="586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anil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ontent Placeholder 7" descr="CA4V6X57CA64GCEUCA704G5BCA8X1219CARU7DORCA701OYECAN071ZICASD7HXPCAP4B3T6CAXHBACOCA0NXC7SCAYHA75HCA50DHWYCAXOP53RCA0R8ODWCAY4PNWKCA63EAUNCA54BY4ECA3DKNKL.jpg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6096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ven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ontent Placeholder 7" descr="images2.jpg"/>
          <p:cNvPicPr/>
          <p:nvPr/>
        </p:nvPicPr>
        <p:blipFill>
          <a:blip r:embed="rId1"/>
          <a:stretch/>
        </p:blipFill>
        <p:spPr>
          <a:xfrm>
            <a:off x="472428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4419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roli 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Orange Leaf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ame That Smell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tent Placeholder 7" descr="images2bh.jpg"/>
          <p:cNvPicPr/>
          <p:nvPr/>
        </p:nvPicPr>
        <p:blipFill>
          <a:blip r:embed="rId1"/>
          <a:stretch/>
        </p:blipFill>
        <p:spPr>
          <a:xfrm>
            <a:off x="5410080" y="38088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) Peppermi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images.jpg"/>
          <p:cNvPicPr/>
          <p:nvPr/>
        </p:nvPicPr>
        <p:blipFill>
          <a:blip r:embed="rId2"/>
          <a:stretch/>
        </p:blipFill>
        <p:spPr>
          <a:xfrm>
            <a:off x="5334120" y="403848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ter's Dictionary. Retrieved on 1/27/10 from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www.webstersdictionary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science for Kids. Retrieved 1/27/10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faculty.washington.edu/chudler/nosek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science for Kids. Retrieved 1/27/10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http://faculty.washington.edu/chudler/lobe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at Sm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hat is Anatomy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ontent Placeholder 6" descr="CAGG5Q9ICAQFX3ETCAUR22TLCASSZ24CCAG1JN9DCAW3VPC5CA7U0APUCAFHPW31CA4ZZR25CAPIY9COCAKIHQ9CCAC11M3HCA90LAJTCA916TXKCAVL09WMCA20PX7UCAB548QJCA7LGMOXCAD9N1NV.jpg"/>
          <p:cNvPicPr/>
          <p:nvPr/>
        </p:nvPicPr>
        <p:blipFill>
          <a:blip r:embed="rId1"/>
          <a:stretch/>
        </p:blipFill>
        <p:spPr>
          <a:xfrm>
            <a:off x="4572000" y="609480"/>
            <a:ext cx="3962520" cy="5639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makeup of an org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08160" cy="11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ense of Smell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tent Placeholder 4" descr="CARORS25CA7JLDSXCAREVEG9CA24KHZ1CA831V01CA905GF5CAJLS0RUCAY3MX9KCAI8I3HACATOA41SCAQQ1FAYCA24B49LCA9DJSQTCAU94RWUCACBK0JYCABTSJK2CAUGBU0JCAMJZ42ACAHHZRGU.jpg"/>
          <p:cNvPicPr/>
          <p:nvPr/>
        </p:nvPicPr>
        <p:blipFill>
          <a:blip r:embed="rId1"/>
          <a:stretch/>
        </p:blipFill>
        <p:spPr>
          <a:xfrm>
            <a:off x="4267080" y="38088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434600"/>
            <a:ext cx="38098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ed the least important se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ld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s more on a subconscious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Joke Time!!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ontent Placeholder 4" descr="images.jpg"/>
          <p:cNvPicPr/>
          <p:nvPr/>
        </p:nvPicPr>
        <p:blipFill>
          <a:blip r:embed="rId1"/>
          <a:stretch/>
        </p:blipFill>
        <p:spPr>
          <a:xfrm>
            <a:off x="4876920" y="1143000"/>
            <a:ext cx="396216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ld Factory does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smell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2367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Olfactory System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038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e of Sm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ion of chemicals floating in the 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molcules enter the nose and dissolve in  mucous within a membrane called Olfactory Epithel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s~Olfactory epithelium is 7 cm up from the nostr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olf1"/>
          <p:cNvPicPr/>
          <p:nvPr/>
        </p:nvPicPr>
        <p:blipFill>
          <a:blip r:embed="rId1"/>
          <a:stretch/>
        </p:blipFill>
        <p:spPr>
          <a:xfrm>
            <a:off x="4191120" y="304920"/>
            <a:ext cx="45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2367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 nose hairs have a purpos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ontent Placeholder 4" descr="CA5LL6F0CAREF6RGCANDJT0XCADBXQ8HCA1NXV5ECADKHSCMCABT87CICAVPXZ3TCAU28JHBCAEF3KA7CAF1JPL2CA41OOMICAXM24CYCAXW5089CANQ1N1MCAX38IMMCA2M8TQOCABUE4UUCAI8B2LV.jpg"/>
          <p:cNvPicPr/>
          <p:nvPr/>
        </p:nvPicPr>
        <p:blipFill>
          <a:blip r:embed="rId1"/>
          <a:stretch/>
        </p:blipFill>
        <p:spPr>
          <a:xfrm>
            <a:off x="4952880" y="914400"/>
            <a:ext cx="403884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800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ells or cilli ~olfactory receptors that respond to particular chemic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s ~ 40 million olfactory 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man Sheherd dog~ 2 billion olfactory 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ells, or cilia or olfacotry receptors react and send information to the olfactory bu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factory sends message to the brain (limbic system).emotional behavior,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ell can bring up 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313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nosmia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ontent Placeholder 4" descr="CAWY43CICANNN5ETCAEKE6WICA8CB7OPCAR7PR6SCA0NCELRCAIBZOM5CAH87R9ZCA20NY9XCALILFMUCAIOEGY1CATQR8RUCADVFHL5CA6BSBK4CALN34EBCABIXQ4GCAQF463BCA3OLECNCA8T342B.jpg"/>
          <p:cNvPicPr/>
          <p:nvPr/>
        </p:nvPicPr>
        <p:blipFill>
          <a:blip r:embed="rId1"/>
          <a:stretch/>
        </p:blipFill>
        <p:spPr>
          <a:xfrm>
            <a:off x="5181480" y="457200"/>
            <a:ext cx="3733920" cy="6095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osm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2 million in US ha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nse of smel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ous head inj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age to the olfactory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kinson’s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zheimer’s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 less appet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ing smell memory linked to de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ble to smell 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tors do a scratch n sniff odor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3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505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hhh…Choo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ontent Placeholder 4" descr="CAKP0ICCCASURB13CA08GVDICAAW1SETCAQD5IOZCAWQZO7CCAFQZ5OCCAOEVKAWCA09O9TWCAXFALOQCAZFSANSCAEVXPZ0CADQU8QPCAM91MB2CA42ZAFXCAF8DF87CAJGL8OGCAT057DXCAPXKGI3.jpg"/>
          <p:cNvPicPr/>
          <p:nvPr/>
        </p:nvPicPr>
        <p:blipFill>
          <a:blip r:embed="rId1"/>
          <a:stretch/>
        </p:blipFill>
        <p:spPr>
          <a:xfrm>
            <a:off x="5105520" y="457200"/>
            <a:ext cx="3581280" cy="5334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191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eeze (sternutation)~ your bodies way of removing an irritation from your n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ckle-message sent to brain-message sent to muscles-snee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close your eyes when you snee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eeze~tiny particles out at 100 miles per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Your Mouth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2:26:43Z</dcterms:created>
  <dc:creator>User CFCC</dc:creator>
  <dc:description/>
  <dc:language>en-US</dc:language>
  <cp:lastModifiedBy>otusers</cp:lastModifiedBy>
  <dcterms:modified xsi:type="dcterms:W3CDTF">2010-02-15T16:07:52Z</dcterms:modified>
  <cp:revision>37</cp:revision>
  <dc:subject/>
  <dc:title>Anatomy of the Nose</dc:title>
</cp:coreProperties>
</file>